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CBE-1A5B-47D8-8998-5517946F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AA1-FF4D-4FA3-BE73-E91D3E64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D1D-4A6B-4230-A51E-FEB8673C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34D-D67A-4F98-81C9-BA0CEE1F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E73-0A19-4871-BAA0-9FE066D8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AA1-E66C-44EC-9F2A-F9B0DB3B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DE1-68C6-4485-9E64-60743FC3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E8F-0EF3-41A0-879E-84FD3488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86F-880C-44E2-BE49-8C1374CD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43A-453C-420C-8DA1-AA1AFF1C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714-3C74-4993-83A5-B06FCB9D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4D6D-895C-4191-8169-E55D4E8C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1D26-66DF-409E-BA15-25F05D788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6812" t="37630" r="36812" b="37630"/>
          <a:stretch/>
        </p:blipFill>
        <p:spPr>
          <a:xfrm>
            <a:off x="0" y="0"/>
            <a:ext cx="1965240" cy="2405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5680" y="304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36812" t="37630" r="36812" b="37630"/>
          <a:stretch/>
        </p:blipFill>
        <p:spPr>
          <a:xfrm>
            <a:off x="2133720" y="0"/>
            <a:ext cx="1965240" cy="240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93080" y="3049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36812" t="37630" r="36812" b="37630"/>
          <a:stretch/>
        </p:blipFill>
        <p:spPr>
          <a:xfrm>
            <a:off x="4495680" y="0"/>
            <a:ext cx="1965600" cy="2405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79440" y="3049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rcRect l="36812" t="37630" r="36812" b="37630"/>
          <a:stretch/>
        </p:blipFill>
        <p:spPr>
          <a:xfrm>
            <a:off x="6858000" y="0"/>
            <a:ext cx="1965240" cy="2405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225560" y="2649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rcRect l="36812" t="37630" r="36812" b="37630"/>
          <a:stretch/>
        </p:blipFill>
        <p:spPr>
          <a:xfrm>
            <a:off x="990720" y="3276720"/>
            <a:ext cx="1965240" cy="240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74120" y="3276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rcRect l="36812" t="37630" r="36812" b="37630"/>
          <a:stretch/>
        </p:blipFill>
        <p:spPr>
          <a:xfrm>
            <a:off x="3124080" y="2895480"/>
            <a:ext cx="2532240" cy="3098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12400" y="3276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/>
          <a:srcRect l="36812" t="37630" r="36812" b="37630"/>
          <a:stretch/>
        </p:blipFill>
        <p:spPr>
          <a:xfrm>
            <a:off x="5943600" y="2819520"/>
            <a:ext cx="2714760" cy="332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631920" y="32767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22:24:38Z</dcterms:created>
  <dc:creator>Tom Harrison</dc:creator>
  <dc:description/>
  <dc:language>en-US</dc:language>
  <cp:lastModifiedBy>Tom Harrison</cp:lastModifiedBy>
  <dcterms:modified xsi:type="dcterms:W3CDTF">2003-12-04T23:08:12Z</dcterms:modified>
  <cp:revision>10</cp:revision>
  <dc:subject/>
  <dc:title>Slide 1</dc:title>
</cp:coreProperties>
</file>