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C2-21F9-428B-97F1-3F39038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FDF-A81E-4AE0-AF7C-99C4749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C22-401F-4B5A-9C40-434D3E45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C72-4D80-45EB-8262-56278D01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874-5AEB-4031-A95F-09F1F7A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AB6-DDB4-4301-89AF-B029533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EBD-FCE2-4C82-851C-9AD4FEA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073-6108-4EA4-B270-12548AA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F7D-B46F-4C24-B967-0F1D681B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53B-092E-4940-9066-5070502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9BB-DD97-44AC-B24B-9819ECB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C1E-83FC-413B-9324-3FED53D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95E1-A61E-432A-A140-AB814A93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6812" t="37630" r="36812" b="37630"/>
          <a:stretch/>
        </p:blipFill>
        <p:spPr>
          <a:xfrm>
            <a:off x="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568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812" t="37630" r="36812" b="37630"/>
          <a:stretch/>
        </p:blipFill>
        <p:spPr>
          <a:xfrm>
            <a:off x="213372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080" y="304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812" t="37630" r="36812" b="37630"/>
          <a:stretch/>
        </p:blipFill>
        <p:spPr>
          <a:xfrm>
            <a:off x="4495680" y="0"/>
            <a:ext cx="1965600" cy="24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9440" y="30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36812" t="37630" r="36812" b="37630"/>
          <a:stretch/>
        </p:blipFill>
        <p:spPr>
          <a:xfrm>
            <a:off x="685800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25560" y="2649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rcRect l="36812" t="37630" r="36812" b="37630"/>
          <a:stretch/>
        </p:blipFill>
        <p:spPr>
          <a:xfrm>
            <a:off x="990720" y="3276720"/>
            <a:ext cx="196524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41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rcRect l="36812" t="37630" r="36812" b="37630"/>
          <a:stretch/>
        </p:blipFill>
        <p:spPr>
          <a:xfrm>
            <a:off x="3124080" y="2895480"/>
            <a:ext cx="253224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1240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rcRect l="36812" t="37630" r="36812" b="37630"/>
          <a:stretch/>
        </p:blipFill>
        <p:spPr>
          <a:xfrm>
            <a:off x="5943600" y="2819520"/>
            <a:ext cx="271476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19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24:38Z</dcterms:created>
  <dc:creator>Tom Harrison</dc:creator>
  <dc:description/>
  <dc:language>en-US</dc:language>
  <cp:lastModifiedBy>Tom Harrison</cp:lastModifiedBy>
  <dcterms:modified xsi:type="dcterms:W3CDTF">2003-12-04T23:08:12Z</dcterms:modified>
  <cp:revision>10</cp:revision>
  <dc:subject/>
  <dc:title>Slide 1</dc:title>
</cp:coreProperties>
</file>