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A46-0561-4580-A4B2-157FF16A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5C0-180A-41FE-91D7-7631EA2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544-6248-4877-9FD5-A45C2285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0F5-1BCA-4866-AF5B-FC525091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6D3-FCB3-4DAC-9C6E-E8C4B937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34A-8656-43CF-A101-37DBA34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A4E-1403-4229-B01C-06B9EC9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2E9-1700-4B7A-800E-97798A0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1B5-91AB-4338-92B8-A13899D6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35D-9C74-4D96-A178-024B6E8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821-6422-43CE-9434-BE1B8B6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78A-0335-49CB-B98C-987274D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43CD-BF83-4A65-8AC6-2F902C70D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6812" t="37630" r="36812" b="37630"/>
          <a:stretch/>
        </p:blipFill>
        <p:spPr>
          <a:xfrm>
            <a:off x="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568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812" t="37630" r="36812" b="37630"/>
          <a:stretch/>
        </p:blipFill>
        <p:spPr>
          <a:xfrm>
            <a:off x="213372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080" y="304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812" t="37630" r="36812" b="37630"/>
          <a:stretch/>
        </p:blipFill>
        <p:spPr>
          <a:xfrm>
            <a:off x="4495680" y="0"/>
            <a:ext cx="1965600" cy="240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9440" y="304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rcRect l="36812" t="37630" r="36812" b="37630"/>
          <a:stretch/>
        </p:blipFill>
        <p:spPr>
          <a:xfrm>
            <a:off x="685800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25560" y="2649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rcRect l="36812" t="37630" r="36812" b="37630"/>
          <a:stretch/>
        </p:blipFill>
        <p:spPr>
          <a:xfrm>
            <a:off x="990720" y="3276720"/>
            <a:ext cx="1965240" cy="24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41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rcRect l="36812" t="37630" r="36812" b="37630"/>
          <a:stretch/>
        </p:blipFill>
        <p:spPr>
          <a:xfrm>
            <a:off x="3124080" y="2895480"/>
            <a:ext cx="253224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1240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rcRect l="36812" t="37630" r="36812" b="37630"/>
          <a:stretch/>
        </p:blipFill>
        <p:spPr>
          <a:xfrm>
            <a:off x="5943600" y="2819520"/>
            <a:ext cx="271476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19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24:38Z</dcterms:created>
  <dc:creator>Tom Harrison</dc:creator>
  <dc:description/>
  <dc:language>en-US</dc:language>
  <cp:lastModifiedBy>Tom Harrison</cp:lastModifiedBy>
  <dcterms:modified xsi:type="dcterms:W3CDTF">2003-12-04T23:08:12Z</dcterms:modified>
  <cp:revision>10</cp:revision>
  <dc:subject/>
  <dc:title>Slide 1</dc:title>
</cp:coreProperties>
</file>