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0383-4EEB-485C-A88F-1A652724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0D1D-FDEE-4C10-8583-D16CD2E8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5796-0FFF-4C36-BEFE-72B940D2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BE28-9F84-4624-8C29-00488C69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77B8-8E69-4BDD-9A21-7D3D233D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818B-22B0-4485-AFE4-352E70FD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F089-DF02-4F6A-B274-29ED1FB0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FD84-E268-468E-9D4D-28F2BD7B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521E-F2D7-451D-9742-1F4BB5FB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CDB3-10D5-4D62-9DCA-287AA806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FF32-C93B-4ED4-BEBA-E6D41472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41E2-EEA0-4D61-8F3E-B627B1FA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CEF1-EAD8-4483-A574-5718D01C4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6812" t="37630" r="36812" b="37630"/>
          <a:stretch/>
        </p:blipFill>
        <p:spPr>
          <a:xfrm>
            <a:off x="0" y="0"/>
            <a:ext cx="1965240" cy="2405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5680" y="3049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36812" t="37630" r="36812" b="37630"/>
          <a:stretch/>
        </p:blipFill>
        <p:spPr>
          <a:xfrm>
            <a:off x="2133720" y="0"/>
            <a:ext cx="1965240" cy="2405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93080" y="3049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rcRect l="36812" t="37630" r="36812" b="37630"/>
          <a:stretch/>
        </p:blipFill>
        <p:spPr>
          <a:xfrm>
            <a:off x="4495680" y="0"/>
            <a:ext cx="1965600" cy="2405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879440" y="3049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rcRect l="36812" t="37630" r="36812" b="37630"/>
          <a:stretch/>
        </p:blipFill>
        <p:spPr>
          <a:xfrm>
            <a:off x="6858000" y="0"/>
            <a:ext cx="1965240" cy="2405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225560" y="2649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rcRect l="36812" t="37630" r="36812" b="37630"/>
          <a:stretch/>
        </p:blipFill>
        <p:spPr>
          <a:xfrm>
            <a:off x="990720" y="3276720"/>
            <a:ext cx="1965240" cy="2404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74120" y="32767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rcRect l="36812" t="37630" r="36812" b="37630"/>
          <a:stretch/>
        </p:blipFill>
        <p:spPr>
          <a:xfrm>
            <a:off x="3124080" y="2895480"/>
            <a:ext cx="2532240" cy="3098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12400" y="32767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7"/>
          <a:srcRect l="36812" t="37630" r="36812" b="37630"/>
          <a:stretch/>
        </p:blipFill>
        <p:spPr>
          <a:xfrm>
            <a:off x="5943600" y="2819520"/>
            <a:ext cx="2714760" cy="3321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631920" y="32767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22:24:38Z</dcterms:created>
  <dc:creator>Tom Harrison</dc:creator>
  <dc:description/>
  <dc:language>en-US</dc:language>
  <cp:lastModifiedBy>Tom Harrison</cp:lastModifiedBy>
  <dcterms:modified xsi:type="dcterms:W3CDTF">2003-12-04T23:08:12Z</dcterms:modified>
  <cp:revision>10</cp:revision>
  <dc:subject/>
  <dc:title>Slide 1</dc:title>
</cp:coreProperties>
</file>