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A87-642D-4BE5-98B3-B3F6EA4B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9E2-80D3-4D58-BEE1-A0952504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735-DE70-47A5-8AAD-0276154D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5F5-2BDE-49D6-A4C0-66550E9B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229-962B-4F91-8C98-60F2097A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65C-FB1A-41EC-AD1F-BBE1542B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7D7-2891-4710-A301-72FA4CAB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DAC-DD4C-43E6-A55A-26810432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534-4A74-4C39-9A91-19EBD76A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E23-17C5-431D-A23D-BDD0BFC6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1A5-8B68-473C-832C-5E8DE445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BE1-770D-4DB1-A2A6-FFB05802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32BC-5C2E-4C72-8471-FA991A3D2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6812" t="37630" r="36812" b="37630"/>
          <a:stretch/>
        </p:blipFill>
        <p:spPr>
          <a:xfrm>
            <a:off x="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5680" y="304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6812" t="37630" r="36812" b="37630"/>
          <a:stretch/>
        </p:blipFill>
        <p:spPr>
          <a:xfrm>
            <a:off x="213372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3080" y="3049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36812" t="37630" r="36812" b="37630"/>
          <a:stretch/>
        </p:blipFill>
        <p:spPr>
          <a:xfrm>
            <a:off x="4495680" y="0"/>
            <a:ext cx="1965600" cy="2405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79440" y="304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rcRect l="36812" t="37630" r="36812" b="37630"/>
          <a:stretch/>
        </p:blipFill>
        <p:spPr>
          <a:xfrm>
            <a:off x="685800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25560" y="2649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rcRect l="36812" t="37630" r="36812" b="37630"/>
          <a:stretch/>
        </p:blipFill>
        <p:spPr>
          <a:xfrm>
            <a:off x="990720" y="3276720"/>
            <a:ext cx="1965240" cy="240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412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rcRect l="36812" t="37630" r="36812" b="37630"/>
          <a:stretch/>
        </p:blipFill>
        <p:spPr>
          <a:xfrm>
            <a:off x="3124080" y="2895480"/>
            <a:ext cx="2532240" cy="309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1240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rcRect l="36812" t="37630" r="36812" b="37630"/>
          <a:stretch/>
        </p:blipFill>
        <p:spPr>
          <a:xfrm>
            <a:off x="5943600" y="2819520"/>
            <a:ext cx="2714760" cy="33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3192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22:24:38Z</dcterms:created>
  <dc:creator>Tom Harrison</dc:creator>
  <dc:description/>
  <dc:language>en-US</dc:language>
  <cp:lastModifiedBy>Tom Harrison</cp:lastModifiedBy>
  <dcterms:modified xsi:type="dcterms:W3CDTF">2003-12-04T23:08:12Z</dcterms:modified>
  <cp:revision>10</cp:revision>
  <dc:subject/>
  <dc:title>Slide 1</dc:title>
</cp:coreProperties>
</file>