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C0A-AB9C-4DAE-A36E-7B1C7806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5CA-82D1-4C68-9639-2BDBB618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497-E2F8-41F5-B3BB-AF9ECEE3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F7B-B3CC-4C6A-8EB8-E91FAD68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3A9-FC43-469D-A7B1-61ED57A4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355-988A-43A0-BC68-F648F1E1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BF9-7140-4060-BF84-87CACED5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EA9-7A01-4ADE-AE7D-A96C653D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C0A-6465-49F8-A54C-27A30F3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698-9EEE-438E-96AC-592ED7F3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72A-63F6-49D6-A25C-DFDD8AEA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E85-C55B-4506-B710-AE2DBA46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71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-2005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632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07720" indent="-2005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07720" indent="-2005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07720" indent="-2005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D973B-3876-49F1-93C6-4A1997D7D5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8640" y="130320"/>
            <a:ext cx="86076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elcome to the NMSU Observator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4433760"/>
            <a:ext cx="4495680" cy="281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22560" y="3390840"/>
            <a:ext cx="269244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8640" y="464760"/>
            <a:ext cx="86076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27 – Dumbbell Neb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1252440"/>
            <a:ext cx="6168960" cy="5681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74280"/>
            <a:ext cx="4584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rst planetary nebula discovered in 17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nter star is largest known white dwarf, a “stellar leftov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,360 light-years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 light-years a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3080" y="1015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57 – The Ring Neb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91920"/>
            <a:ext cx="471168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57 is a planetary nebula, which means it is in the later stages of a star which used to be like the S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estimated to be 2000 light years from Earth (12 thousand trillion miles) and is 2.6 light years in diameter (15 trillion 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49800" y="1917720"/>
            <a:ext cx="452592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3160" y="150480"/>
            <a:ext cx="856008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8560"/>
            <a:ext cx="47116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upiter is the largest planet in our Solar System. It is about 300 times larger than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upiter orbits 490 million miles from the Sun (Earth orbits at 93 million 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upiter's year is 12 Earth years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3440" y="1855800"/>
            <a:ext cx="46260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889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Jupiter's M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53760"/>
            <a:ext cx="508644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upiter has four large moons called the “Galilean Mo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moons are all about the size of our Moon or 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upiter has 59 known smaller satellit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59520" y="1730520"/>
            <a:ext cx="3654360" cy="50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2400" y="3520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Globular Cluster M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62680" y="3719520"/>
            <a:ext cx="1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62680" y="3719520"/>
            <a:ext cx="1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2680" y="3719520"/>
            <a:ext cx="1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24000"/>
            <a:ext cx="4800600" cy="57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nse cluster of 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timated to be 13.2 billion years old, one of the oldest globular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3,600 light-years from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75 light-years a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isible on good night with naked eye or binocu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3160" y="150480"/>
            <a:ext cx="856008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11 – The Wild Duck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5257800" cy="5486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8920"/>
            <a:ext cx="502920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11 was discovered by Gottfried Kirch of the Berlin observatory in 16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11 is an open cluster, containing an estimated 2900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ge of the Wild Duck cluster has been estimated to amount 220 to 250 million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yan Hamilton</dc:creator>
  <dc:description/>
  <dc:language>en-US</dc:language>
  <cp:lastModifiedBy>Ryan Hamilton</cp:lastModifiedBy>
  <cp:revision>0</cp:revision>
  <dc:subject/>
  <dc:title/>
</cp:coreProperties>
</file>