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90E8-5D00-4524-824B-4995448CC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268B-4EF8-434D-8AB6-02FE821A1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9A09-F8CB-4D54-A5EA-922500B43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DCD3-3932-417C-B714-7822C4B06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46A6-64C6-493C-9308-AEF915A41D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AF07-5ED6-43FE-BA36-2E20CA151D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0A74-2FCC-4690-8A46-B138C7BE7B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BB89-544B-4113-8CE0-FFCBA70F48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49D2-A59B-49B9-97B9-5CEF76BF1A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FB66-70D7-4779-9C1D-9FC38065A0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C9D9-BAAD-4641-90F5-168E1679C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9502-EBAC-4B27-BAD6-14FFD9C2C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820D-63A6-4004-8D3F-2DC89BB93E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5F4D-D7D9-49C3-BB38-9B4BF4E1FD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B636-393C-4EF0-9218-04616BDE24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A42F-03AD-4B63-B8C4-B9EB3DFA1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E56D-9B3F-4772-B371-C9B05F892E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2F0-3C85-4388-A826-040E3C62B5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F99-666D-4CD3-B00C-4C4DF0E7DD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DB5-3386-4CD3-98D0-9299394CCA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C03-A2FF-4D08-B485-AFAB4A7A86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CCE-FEB3-4223-8D7C-9F1D05464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EC4F-C584-4B08-B3D9-37085C3A68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956-95A9-455E-A71F-78BF1DD3AF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8AE-11D4-4257-8799-2E0096F912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467-DEBD-4FFD-BE1F-A54DB72335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794-C7C0-4E18-A41B-A1EF81EEAC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24C-3C0A-4500-863D-B3F456BEEC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216-4914-4B3D-98C6-E511369E64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54E-9799-44D9-B400-2E15F8F02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6C7B-00DE-4F06-B5E8-A41FEBC26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6434-E9CC-47E0-B92B-B4CE81038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2A93-EE67-4D34-97BD-4CCC075A0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E597-0ECA-4D87-8C6D-1D0DD005A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4625-8D76-4B09-BA45-262F1B4A4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A78E-1EC1-4D81-B2BF-9007183D8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EAA99-990B-4F36-9E50-36819304CEC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C1341-317E-4065-AD4A-08436D97EA6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D70DD-CC38-443A-A5A2-4E04D98C3EC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ab 8- Parall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Measuring Di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4582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3024" r="0" b="3024"/>
          <a:stretch/>
        </p:blipFill>
        <p:spPr>
          <a:xfrm>
            <a:off x="950760" y="1544760"/>
            <a:ext cx="8193240" cy="55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Finding Di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8680">
              <a:lnSpc>
                <a:spcPct val="93000"/>
              </a:lnSpc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rge shift = nearby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mall shift = farth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 = (b/2) / tan(α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 = 57.3 x (b/2) / 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θ = α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360" y="1698480"/>
            <a:ext cx="4884840" cy="2605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4360" y="4484520"/>
            <a:ext cx="4884840" cy="27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Finding Di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8680">
              <a:lnSpc>
                <a:spcPct val="93000"/>
              </a:lnSpc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rge shift = nearby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mall shift = farth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 = (b/2) / tan(α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 = 57.3 x (b/2) / 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θ = α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360" y="1698480"/>
            <a:ext cx="4884840" cy="2605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4360" y="4484520"/>
            <a:ext cx="4884840" cy="2725920"/>
          </a:xfrm>
          <a:prstGeom prst="rect">
            <a:avLst/>
          </a:prstGeom>
          <a:ln w="0">
            <a:noFill/>
          </a:ln>
        </p:spPr>
      </p:pic>
      <p:cxnSp>
        <p:nvCxnSpPr>
          <p:cNvPr id="136" name=""/>
          <p:cNvCxnSpPr/>
          <p:nvPr/>
        </p:nvCxnSpPr>
        <p:spPr>
          <a:xfrm>
            <a:off x="5447880" y="4212720"/>
            <a:ext cx="3693240" cy="10440"/>
          </a:xfrm>
          <a:prstGeom prst="straightConnector1">
            <a:avLst/>
          </a:prstGeom>
          <a:ln w="38160">
            <a:solidFill>
              <a:srgbClr val="ff0000"/>
            </a:solidFill>
            <a:round/>
          </a:ln>
        </p:spPr>
      </p:cxnSp>
      <p:sp>
        <p:nvSpPr>
          <p:cNvPr id="137" name=""/>
          <p:cNvSpPr/>
          <p:nvPr/>
        </p:nvSpPr>
        <p:spPr>
          <a:xfrm>
            <a:off x="5497560" y="4527720"/>
            <a:ext cx="3597120" cy="5648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36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6160" y="1965240"/>
            <a:ext cx="4425840" cy="4664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1640" y="1371240"/>
            <a:ext cx="5257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8680">
              <a:lnSpc>
                <a:spcPct val="93000"/>
              </a:lnSpc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 degree = 60 arc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 arcminute = 60 arc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ze of the full moon ≈ 0.5 arcminutes = 30 arc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dex finger extended out = 1 arc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st extended = 10 arc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Notes for this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8680">
              <a:lnSpc>
                <a:spcPct val="93000"/>
              </a:lnSpc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careful with units! Remember, unit conversions were covered in the intro lab- refer back to it if you need 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metric when measuring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8680">
              <a:lnSpc>
                <a:spcPct val="93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Noto Symbol"/>
              <a:buChar char="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n't move your head when making parallax measurements unless the lab explicitly tells you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2-12-13T16:49:47Z</dcterms:modified>
  <cp:revision>1</cp:revision>
  <dc:subject/>
  <dc:title/>
</cp:coreProperties>
</file>